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111-2720-457C-A790-FAC987E4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2F6-6B01-4E88-B16E-9F94DA71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B17-F66D-4B49-AAD2-B9E0ACB8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E04-DE6F-49E3-AC9B-8266CE6C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0C46-3AC9-4D5C-A0EA-1DBA888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04F4-D4DC-4EBF-823E-32231B7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5DD5-03DE-485E-BA92-BC1D16FE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AB51-E200-4FE7-BD08-678EF16B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08C-8876-4985-9589-83499726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1E72-7F45-4266-9528-DEE33916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8E45-AF5E-46E8-971A-BFA780C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199-D0E7-4CED-B410-6B407D5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B2F-92F6-4BE6-8C57-7656FE6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10E3-BDFB-407F-B88F-2FF6042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2E2-4C60-455F-8F8C-6C05F32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559-5E8A-4235-814C-B88027FF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77A4-C6DD-4109-8D2D-4B2CFA1D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019-2D10-4932-9E26-384513B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B78-7B58-48BB-9A29-9B2DDEA1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FBE-4415-4E51-A323-02A1B8C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4F2-BB64-424A-8578-928A4B78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43A-C7C6-4F82-A595-A5D3EA6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CEA-7CC8-4F59-9C08-BB6EEC7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549-8D11-4074-A130-CF2E0E76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1C0-2B65-43D2-9207-AED459075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64A-7E1E-4E26-808C-35308806B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fi.fr/acturu/articles/111/article_2725.asp" TargetMode="External"/><Relationship Id="rId3" Type="http://schemas.openxmlformats.org/officeDocument/2006/relationships/hyperlink" Target="http://dic.academic.ru/dic.nsf/ruwiki/245753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Престижный Университет Франции - Сорбон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 для учащихся 8-9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95480" y="1986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Основополагающий вопрос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дает нам образ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Проблем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престижное высшее образ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зде ли одинаково обуч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Учеб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знаменита Сорбон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нужно для того, чтобы обучаться в Сорбон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бный предмет: французский язык, ис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стники: учащиеся 8 – 9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ffff"/>
                </a:solidFill>
                <a:latin typeface="Comic Sans MS"/>
              </a:rPr>
              <a:t>Цель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ить знания учащимся по истории Университета Сорбонна, включ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ю осн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а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у Универс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Методические задачи проек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учить знания  о конкретном учебном завед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об образовании во Фран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ся искать проблему и пути её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Результаты представления исслед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кур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Этапы и сроки проведения проек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оздание проекта ученику дается 4 часа. Из них 1 час на выбор темы, 2 час на поиск информации, 3 час на создание проекта, 4 час на оценку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http://www.rfi.fr/acturu/articles/111/article_2725.as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http://dic.academic.ru/dic.nsf/ruwiki/24575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</a:rPr>
              <a:t>http://ru.wikipedia.org/wiki/%D0%9C%D0%BE%D0%BD%D0%BC%D0%B0%D1%80%D1%82%D1%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1:03:04Z</dcterms:created>
  <dc:creator>User_04</dc:creator>
  <dc:description/>
  <dc:language>en-US</dc:language>
  <cp:lastModifiedBy>Валюша</cp:lastModifiedBy>
  <dcterms:modified xsi:type="dcterms:W3CDTF">2009-10-20T13:46:26Z</dcterms:modified>
  <cp:revision>4</cp:revision>
  <dc:subject/>
  <dc:title>Престижный Университет Франции - Сорбонна</dc:title>
</cp:coreProperties>
</file>